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96EF-06FD-42DD-9ACA-C50B9565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89A1-66D4-44F3-8519-448592AF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F82C-6A30-4FAF-8AB2-BB1199F0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93AC-C43A-4195-B043-C0993B9E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9312-60D0-4714-B5D9-B1F2143B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D0FF-AF48-4E6C-B6F7-B559AECA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6F6C2-526B-4EBC-82AE-C71620A5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8408-CC01-4987-AD5B-37F3161D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88AC-AC04-49FC-A0D3-119769AB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BE77-F2EF-45A6-A270-C7C4F575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3718-C3EA-4A02-9624-D907D5F0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A0EE-1FEA-4291-8EC5-9E3D3A96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48E2-3B68-4D12-ACF3-4504DA05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76EC-E70B-4C99-8878-1BBAB6DF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477E-7498-4900-AC5C-E47BE4AD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75AC-3D12-4986-92E2-D71A4B80B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5852-6515-4EAF-93B6-60437EA0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43EA-EE94-4A6A-AB0A-35F5E97D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8FB6-3F69-49C4-A184-DB309327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C170-A46E-4D8C-9B7A-74DC9CB1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03C0-BA3A-4C9E-9119-656CC04C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4705-AC97-4EDD-8C8B-6BEA65F0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3980-1300-4479-9CBD-A7D5D2E2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B4AC-C0EC-42C3-BFBA-83E08AA0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5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51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52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3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4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5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6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7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8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59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0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1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2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3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4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5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6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7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68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69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0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1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4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6B93-EA3C-4324-8375-056F22F839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grpSp>
        <p:nvGrpSpPr>
          <p:cNvPr id="118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119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0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1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2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3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4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5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6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7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8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9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0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1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2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3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4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5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6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7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8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9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0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1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2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3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4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5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6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7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8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0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1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2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3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4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5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6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7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8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9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0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1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2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3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4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grpSp>
          <p:nvGrpSpPr>
            <p:cNvPr id="165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66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7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8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69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0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1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2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3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4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5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6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7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8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79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0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1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  <p:sp>
            <p:nvSpPr>
              <p:cNvPr id="182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99"/>
                  </a:solidFill>
                  <a:latin typeface="Times New Roman"/>
                </a:endParaRPr>
              </a:p>
            </p:txBody>
          </p:sp>
        </p:grpSp>
        <p:sp>
          <p:nvSpPr>
            <p:cNvPr id="183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4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5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6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7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8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9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190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559E-D2E5-4BBF-85D3-F23895B45A4A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ACQpZW-eTg&amp;safe=active" TargetMode="External"/><Relationship Id="rId2" Type="http://schemas.openxmlformats.org/officeDocument/2006/relationships/hyperlink" Target="http://www.youtube.com/watch?v=dHj5GsrQl0E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hapter 2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562120" y="2286000"/>
            <a:ext cx="58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ools of Environmental Science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Statistic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Stats and Population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Statistical population- group of similar things that make up a larger population that scientists are interested in studying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Averages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Mean- the number obtained by getting the sum of all data and dividing by the number of data entries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Distribution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Relative arrangement of the members of a statistical population 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Bell curve- seen in figure 9, represents a normal distribution, this means that the majority of the data points are located around the mean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Probability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Narrow"/>
              </a:rPr>
              <a:t>The likelihood that some event will happen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Narrow"/>
              </a:rPr>
              <a:t>DON’T GET THIS CONFUSED WITH POSSIBILITY…possibility means that something can happen, not that it is likely to happen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Narrow"/>
              </a:rPr>
              <a:t>Sample- the number of objects being studied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Small samples provide less accurate results than large samples…see example on page 40.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Risk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2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Narrow"/>
              </a:rPr>
              <a:t>The probability of an unwanted outcome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 Narrow"/>
              </a:rPr>
              <a:t>Where in everyday life do you see people worrying about risks?</a:t>
            </a:r>
            <a:endParaRPr b="0" lang="en-US" sz="2800" spc="-1" strike="noStrike">
              <a:solidFill>
                <a:srgbClr val="ffcc99"/>
              </a:solidFill>
              <a:latin typeface="Arial Narrow"/>
            </a:endParaRPr>
          </a:p>
        </p:txBody>
      </p:sp>
      <p:pic>
        <p:nvPicPr>
          <p:cNvPr id="240" name="Picture 5" descr="ultimate_frisbee"/>
          <p:cNvPicPr/>
          <p:nvPr/>
        </p:nvPicPr>
        <p:blipFill>
          <a:blip r:embed="rId1"/>
          <a:stretch/>
        </p:blipFill>
        <p:spPr>
          <a:xfrm>
            <a:off x="5522760" y="3043080"/>
            <a:ext cx="316404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Model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Mathematical models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One or more equations that represent how something works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Physical models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3-D models that you can touch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 Narrow"/>
              </a:rPr>
              <a:t>For example, the double helix DNA model</a:t>
            </a:r>
            <a:endParaRPr b="0" lang="en-US" sz="1800" spc="-1" strike="noStrike">
              <a:solidFill>
                <a:srgbClr val="ffcc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Graphical models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A pictorial example of something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 Narrow"/>
              </a:rPr>
              <a:t>Examples include: maps, bell curves</a:t>
            </a:r>
            <a:endParaRPr b="0" lang="en-US" sz="1800" spc="-1" strike="noStrike">
              <a:solidFill>
                <a:srgbClr val="ffcc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 Narrow"/>
              </a:rPr>
              <a:t>Conceptual models</a:t>
            </a:r>
            <a:endParaRPr b="0" lang="en-US" sz="2400" spc="-1" strike="noStrike">
              <a:solidFill>
                <a:srgbClr val="ffcc99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 Narrow"/>
              </a:rPr>
              <a:t>Verbal or graphical representation of how something works</a:t>
            </a:r>
            <a:endParaRPr b="0" lang="en-US" sz="2000" spc="-1" strike="noStrike">
              <a:solidFill>
                <a:srgbClr val="ffcc99"/>
              </a:solidFill>
              <a:latin typeface="Arial Narrow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99"/>
                </a:solidFill>
                <a:latin typeface="Arial Narrow"/>
              </a:rPr>
              <a:t>Examples: flow charts, Venn Diagrams</a:t>
            </a:r>
            <a:endParaRPr b="0" lang="en-US" sz="18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BYOD Assignmen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Use the weather section of a newspaper or online resource to find examples of scientific models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Locate and describe one of each type of model: physical, graphical, and conceptua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05120" y="7632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Press Conference Assignment Updat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Video below of a press conference…get ideas!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08520" indent="-30852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http://www.youtube.com/watch?v=TmsoRoBXD18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08520" indent="-30852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33"/>
                </a:solidFill>
                <a:uFillTx/>
                <a:latin typeface="Arial Narrow"/>
                <a:hlinkClick r:id="rId1"/>
              </a:rPr>
              <a:t>http://www.youtube.com/watch?v=1ACQpZW-eTg&amp;safe=active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08520" indent="-30852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33"/>
                </a:solidFill>
                <a:uFillTx/>
                <a:latin typeface="Arial Narrow"/>
                <a:hlinkClick r:id="rId2"/>
              </a:rPr>
              <a:t>http://www.youtube.com/watch?v=dHj5GsrQl0E</a:t>
            </a: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04:37:23Z</dcterms:created>
  <dc:creator>Adam's Homepage</dc:creator>
  <dc:description/>
  <dc:language>en-US</dc:language>
  <cp:lastModifiedBy>Goosby, Nicholas</cp:lastModifiedBy>
  <dcterms:modified xsi:type="dcterms:W3CDTF">2013-08-28T21:12:19Z</dcterms:modified>
  <cp:revision>6</cp:revision>
  <dc:subject/>
  <dc:title>Chapter 2</dc:title>
</cp:coreProperties>
</file>